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4F3CDC-393D-4B6C-8DD0-8DD463B8E0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3608CD-DD1E-43B6-83DD-9351B5E9FB8E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61AB0DF-3332-478F-B413-5591D5524358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49E3159-954D-493F-B6C3-0409B8FD16DA}" type="slidenum">
              <a:rPr b="0" lang="en-US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fd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fdd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fd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888480" y="1320120"/>
            <a:ext cx="72144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CA" sz="4400" spc="-1" strike="noStrike">
                <a:solidFill>
                  <a:srgbClr val="003366"/>
                </a:solidFill>
                <a:latin typeface="Arial"/>
              </a:rPr>
              <a:t>Employment Services</a:t>
            </a:r>
            <a:r>
              <a:rPr b="1" lang="en-CA" sz="40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5867280" y="5562720"/>
            <a:ext cx="2895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8" name="Picture 11" descr=""/>
          <p:cNvPicPr/>
          <p:nvPr/>
        </p:nvPicPr>
        <p:blipFill>
          <a:blip r:embed="rId1"/>
          <a:stretch/>
        </p:blipFill>
        <p:spPr>
          <a:xfrm>
            <a:off x="6168960" y="0"/>
            <a:ext cx="2975040" cy="1203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EO-BW-Eng"/>
          <p:cNvPicPr/>
          <p:nvPr/>
        </p:nvPicPr>
        <p:blipFill>
          <a:blip r:embed="rId2"/>
          <a:stretch/>
        </p:blipFill>
        <p:spPr>
          <a:xfrm>
            <a:off x="6477120" y="5638680"/>
            <a:ext cx="2346120" cy="9288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Participant Suppor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p to $500.00 to remove barriers to employmen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be used for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equired Clot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redential Assessmen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icen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Second Career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2437920"/>
            <a:ext cx="66294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Assistan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with Career Explor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Researching LM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13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Completing Application Form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Application Submission to MTCU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9040" indent="-32904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Assistance with Job Search following training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2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TIOW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514240"/>
            <a:ext cx="7467840" cy="341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Needs Assessment &amp; Development of a Return to Work Service P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25 hours a week for four weeks on-site career exploration, job search strategies, in-house train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Off-site training when required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Access to job development &amp; training incentiv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Benefits of Client Referral 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3366"/>
                </a:solidFill>
                <a:latin typeface="Arial"/>
              </a:rPr>
              <a:t>CIC Service Provider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Specialize in working with newcom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Often have a diverse multi-lingual staff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Assist in the settlement proc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Offer workshops specifically geared to newcom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3366"/>
                </a:solidFill>
                <a:latin typeface="Arial"/>
              </a:rPr>
              <a:t>Many offer childcar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47960" y="2361960"/>
            <a:ext cx="4002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OES Service Provider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pecialize in Employment Servic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ull time Job Developer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ccess to Job Matching &amp; Participant Incentiv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nowledge &amp; Access to other Employment Ontario Servic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Straight Connector 4"/>
          <p:cNvSpPr/>
          <p:nvPr/>
        </p:nvSpPr>
        <p:spPr>
          <a:xfrm>
            <a:off x="4648320" y="6019920"/>
            <a:ext cx="0" cy="7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Straight Connector 7"/>
          <p:cNvSpPr/>
          <p:nvPr/>
        </p:nvSpPr>
        <p:spPr>
          <a:xfrm>
            <a:off x="4648320" y="2514600"/>
            <a:ext cx="0" cy="2666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Straight Connector 14"/>
          <p:cNvSpPr/>
          <p:nvPr/>
        </p:nvSpPr>
        <p:spPr>
          <a:xfrm>
            <a:off x="4572000" y="2438280"/>
            <a:ext cx="0" cy="3657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10440" y="834120"/>
            <a:ext cx="7780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Benefits of Working in Partnership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286000"/>
            <a:ext cx="78487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r Range of Client Servic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ncreased Knowledge of Community &amp; Government Servic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portunity for Improved Response to Client Need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eater Opportunity for Client Accommodation e.g. EOES Group Workshop at CIC Funded Site to allow Day Care Suppo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058040" y="251424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pic>
        <p:nvPicPr>
          <p:cNvPr id="135" name="Picture 7" descr="Businessman and question mark"/>
          <p:cNvPicPr/>
          <p:nvPr/>
        </p:nvPicPr>
        <p:blipFill>
          <a:blip r:embed="rId1"/>
          <a:stretch/>
        </p:blipFill>
        <p:spPr>
          <a:xfrm>
            <a:off x="1727280" y="2400480"/>
            <a:ext cx="5638680" cy="4228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DRUHC History   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688760" y="2361960"/>
            <a:ext cx="6235560" cy="436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Established in 1983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Specialize in Employment Counselling Services formerly adult now all eligible job seekers in Oshawa &amp; Picker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Recipient of Four Ministers Awards for Service Excellenc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ISO Registered Agency since 2004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Over 22,000 visitors per yea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Locations 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7720" y="2361960"/>
            <a:ext cx="39625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Oshaw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72 King Street Eas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O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ployer 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source Cen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hild/parent play/counselling are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836600" y="2361960"/>
            <a:ext cx="40021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Picker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400 Bayly Stree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O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</a:rPr>
              <a:t>Welcome Cent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ccasional Childcare for JSW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910080" y="834120"/>
            <a:ext cx="6637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Arial"/>
              </a:rPr>
              <a:t>CIC/ Newcomer Services </a:t>
            </a:r>
            <a:endParaRPr b="1" lang="en-US" sz="40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7720" y="2437920"/>
            <a:ext cx="7696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JSW since 2002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150000"/>
              </a:lnSpc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ent Centric: Half- Full day workshop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Leader of Pickering Welcome Centre 2011 – Transitional Mod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35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entorship Program 2011 </a:t>
            </a:r>
            <a:br>
              <a:rPr sz="3200"/>
            </a:b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4480" y="834120"/>
            <a:ext cx="6636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Employment Ontario Employment Services   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14400" y="251460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Resources &amp; Inform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Individually Tailored Service Pla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Job Reten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Job Matching &amp; Placemen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Second Career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3366"/>
                </a:solidFill>
                <a:latin typeface="Arial"/>
              </a:rPr>
              <a:t>TIOW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Resources &amp; Information Oshawa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2320"/>
            <a:ext cx="7693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35 Dedicated client computer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ull Time Resource Support Pers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ent Centric Workshop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xtended Hou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8.30 a.m.- 8:00 p.m. Mon – Thu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sic Computer Training – evening hour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mployer Resource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eferrals &amp; Informa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480" y="834120"/>
            <a:ext cx="6636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Service Plan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61760" y="2361960"/>
            <a:ext cx="69339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Needs Assessment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Development of Tailored Return to Work Service Plan to assist clients in meeting their employment objectiv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Referral to other E.O. Services or other community/ Government Service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On-going follow-up &amp; Suppor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Job Retention 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7720" y="2438280"/>
            <a:ext cx="7162920" cy="36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y be part of Client’s Service Pla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nefits clients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ith poor work histor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lack of Canadian Work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dividual &amp; Group Counsell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990033"/>
                </a:solidFill>
                <a:latin typeface="Arial"/>
              </a:rPr>
              <a:t>Job Matching Placemen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Benefits Job Seekers that cannot compete in a competitive Marke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3-Full time dedicated job developers actively soliciting employment opportunit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Training Incentive for Employer ($2-2,500 average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Training can be on the job or formal (off-sit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3366"/>
                </a:solidFill>
                <a:latin typeface="Arial"/>
              </a:rPr>
              <a:t>On-going support intervention based on client ne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5T18:20:10Z</dcterms:created>
  <dc:creator>student1</dc:creator>
  <dc:description/>
  <dc:language>en-US</dc:language>
  <cp:lastModifiedBy>aholmes</cp:lastModifiedBy>
  <dcterms:modified xsi:type="dcterms:W3CDTF">2011-07-08T18:53:33Z</dcterms:modified>
  <cp:revision>199</cp:revision>
  <dc:subject/>
  <dc:title>Slide 1</dc:title>
</cp:coreProperties>
</file>